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C635-205C-4170-95A2-B37D54FE4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1053-78E1-4E0C-AD09-FE1E79EF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887A-736D-4C7E-B682-3A6350FE9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FD9E-4827-4087-A542-2A13562DB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7432-880A-4E3A-8E18-CB89CEB4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F52F-94C2-4F5F-9DAD-05F27CC4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22A1-CAFF-4B00-9486-A7730222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1D05-46B9-4576-9510-B6C1C476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9BA6-45BB-44C1-A1AA-F1278FD2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2465-DCFA-4F90-BF77-C5086676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D3DB-4EB8-4840-84CF-CE977867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D253-7288-4549-97DB-DD57D6C8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1AAF-BEAB-4F3A-BCC2-5ADBEA384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39 Spievajme všetci radost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láska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láska j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ievajme všetci, jasaj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Boh láska j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ievajme všetci radostn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láska j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ni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ad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ávnostn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Boh láska j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hriešnym nádej prináš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pádu nás dvíha, povznáš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rdca zvesť tá dotkne s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Boh láska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láska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láska j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ievajme všetci, jasaj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Boh láska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známte zvesť tú v šír i dia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Boh láska j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pre nás človekom sa st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Boh láska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šiel Spasiteľ presvät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rieť na výšinách Golgot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ykúpení sme, ja i ty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Boh láska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láska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láska j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ievajme všetci, jasaj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Boh láska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k si ho prijal, zajas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Boh láska j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veľkú milosť vďaku vzd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Boh láska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svetlo i štít máme sv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deje, lásky on je zdr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íši raz všetku žalosť, b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Boh láska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9:52:49Z</dcterms:modified>
  <cp:revision>29</cp:revision>
  <dc:subject/>
  <dc:title>Je veľký náš Pán, on slávy je Kráľ Nech do všetkých strán  spev vrúcnych znie chvál.</dc:title>
</cp:coreProperties>
</file>